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7B71-998C-4EB9-B610-5F2B17818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D39A-C959-4631-BE8E-2DF564FA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77AA-7E94-4C20-9447-D9B91DF1C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BB00-AB2A-4A24-BAD1-52BE5D404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6346-85B3-4877-A82D-DBD08D0F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C825-AFA4-4B39-9D17-64DECEAF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A91F-A5AF-4B80-9559-31F1B44B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08EC-48B2-4674-B5DD-0ED4F00E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A704-5AE1-4997-BC4F-956BE878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0ECF-8CCC-4405-A8F2-F5C9395C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FF56-FC33-4767-98D1-FEC30390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ABFD-4F1C-4A70-9DBB-8AA2E93F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B803-AB87-4BC9-804B-E00A42FF6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slide15.xml"/><Relationship Id="rId10" Type="http://schemas.openxmlformats.org/officeDocument/2006/relationships/slide" Target=""/><Relationship Id="rId11" Type="http://schemas.openxmlformats.org/officeDocument/2006/relationships/slide" Target="slide16.xml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slide11.xml"/><Relationship Id="rId17" Type="http://schemas.openxmlformats.org/officeDocument/2006/relationships/slide" Target=""/><Relationship Id="rId18" Type="http://schemas.openxmlformats.org/officeDocument/2006/relationships/slide" Target="slide12.xml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slide7.xml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slide19.xml"/><Relationship Id="rId27" Type="http://schemas.openxmlformats.org/officeDocument/2006/relationships/slide" Target=""/><Relationship Id="rId28" Type="http://schemas.openxmlformats.org/officeDocument/2006/relationships/slide" Target="slide20.xml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slide3.xml"/><Relationship Id="rId3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s. Boiscl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lassification pertains to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lack a membrane bound nucle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52280"/>
            <a:ext cx="7162560" cy="13816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PROKARYO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rganelle receives materials from the endoplasm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iculum and sends them to other parts of the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28600"/>
            <a:ext cx="7162920" cy="13816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LGI BO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lassification pertains to cells that have a membra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nd nucleus as well as specialized organel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EUKARYO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rganelle directs all of the cells activiti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reprodu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a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heory states three th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All living things are composed of cel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Cells are the basic unit of stru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function in living th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All cells are made from other c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the CELL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cientist concluded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animals are composed of c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is SCHW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cientist was one of the first people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 single celled organisms we now called bacte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 is LEEUWENHO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an concluded that all plants are made of cel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 is SCHLEI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chow concluded th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228600"/>
            <a:ext cx="7162920" cy="13816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all cells are made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c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was one of the first people to observe cel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 is HO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9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0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1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2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3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380880"/>
            <a:ext cx="175248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0880"/>
            <a:ext cx="175284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4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5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7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8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9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0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1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2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4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5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6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7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8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9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0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397160"/>
            <a:ext cx="6096240" cy="40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nstrument uses tiny beams of electr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learly magnify im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30492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CTRON MICRO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one is able to distinguish individual parts of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it is said to have high w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 type of instrument that bends ligh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ify images and has *multiple* len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30492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UND MICRO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tructure helps in protec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giving structure to pl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CELL W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rganelle is a network of passageways wh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y materials from one part of the cell to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152280"/>
            <a:ext cx="708660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OPLASMIC RETICUL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rganelle is much bigger in plant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 in animal cells. It also aids in cell surviv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a VACU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rganelle which is the “powerhouse” of the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ere cell energy is produce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228600"/>
            <a:ext cx="723888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TOCHOND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tiny factory like structures that produce prote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are RIBOS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ype of cell is found in humans, dogs, turtles, etc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28600"/>
            <a:ext cx="716256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ANIMAL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loroplasts and cell wall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in which type of cel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.</cp:lastModifiedBy>
  <cp:lastPrinted>2001-01-31T16:21:13Z</cp:lastPrinted>
  <dcterms:modified xsi:type="dcterms:W3CDTF">2008-02-23T00:54:49Z</dcterms:modified>
  <cp:revision>65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